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F5D-D5B6-4452-A17E-88E468B1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25A-89E8-4BEA-88EA-1BC0F568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55F-352F-4DD8-AF02-E6C47A18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60E-AFB8-4B22-B7A4-A79E16E8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182-C8DA-4457-9049-FBB60EB7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2F5-5C54-4402-8CD0-1842C9D1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950-8A40-4071-BF6A-B9740B78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136-1CF0-4755-926D-475B218C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BE5-7A1A-4863-B0F5-E03EAFA5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3A3-971C-4D2F-946B-121D139A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C3A-7A2D-4E8E-B089-07C34FA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F5D-AB68-4693-9AA2-A0E8CEE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0E94-34D7-4478-A04E-FD15724D8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:  World History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iker/Spielvo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(before Christ) – counts backwards from the birth of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(anno domini) – translation – in the year of the birth of Christ = ye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/Christian time re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C.E. – (before the common er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E. – (common e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ame time reference as above; however, used by world histori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politically cor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Calendar/Gregorian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after Pope Gregory XIII in 1582 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rew Calendar – Year 1 = 3760 B.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by the Jewish as the date of the creation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ic Calendar -  Year 1 = 622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y Muhammad fled Me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mes of Understan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orld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ystems - structure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Ideas – power and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 and History – meeting of needs/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Life and Gender Issue – class structures/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ulture – High/Pop 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 in History – spread/impact/changes to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Role of Individuals – man makes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of Science and Technology –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and History – human imp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gration of People – why people mo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Persp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e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dd perspectives slides assig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 Draw a world map with as many continents, countries, and oceans/waterways as 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– using map persp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Euro-centric view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ing personal and cultural 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bi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provide examples of who you are – bring in documents that exemplify who and what you are.  Try to obtain different perspectives on your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find biases in oral and written communication and docu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:  Provide documents using Concept Attainment have students discover different elements leading to bias and per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consider to find b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– ethnicity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oloring or influencing the auth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 – who is the work intend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5 W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ed Words – best underl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used with DBQ – Document Ba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21:49:23Z</dcterms:created>
  <dc:creator>ripkensa</dc:creator>
  <dc:description/>
  <dc:language>en-US</dc:language>
  <cp:lastModifiedBy>ripkensa</cp:lastModifiedBy>
  <dcterms:modified xsi:type="dcterms:W3CDTF">2009-07-20T14:27:52Z</dcterms:modified>
  <cp:revision>7</cp:revision>
  <dc:subject/>
  <dc:title>World History</dc:title>
</cp:coreProperties>
</file>